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7E01-10D4-4BD8-9BCA-F173257F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F4C-D2C8-44B1-8631-69766FC1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3A3-3984-47F6-BF88-17473174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87C-8E14-40A9-83A0-24BF9AA4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43023-0D0E-461B-B5FE-11A3D148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5DE8D-1BA3-4325-8973-74A21997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EF81D-E814-4FB2-A3C3-FE26EED9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5BF19-3C1C-47BB-9037-1332DC48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2D2B6-EBE1-43E0-A626-E52FF884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E5EB6-91C8-477F-BDED-2D9C29E8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F2120-712B-44CA-B4C8-6CEFCF98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1CE-2663-4923-9581-4CF3198A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98F08-D318-4AB3-8C97-5072E796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2B077-822F-40BD-9D30-5E493078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C8C6C-538D-42A7-A1B0-6603ECB8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DDE65-3F22-41AB-BF2F-37A5F52A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EBCC0-FE75-4D9A-85D5-C560B21E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3DC23-8E8D-4C52-A72B-6E6C24CF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77BCD-E8E8-479B-9A15-5B04C612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26885-C762-4948-9FF0-11A765B1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C7E6B-5154-4A84-B323-7AED33A7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B6929-F7E6-4723-B3B9-D30D874D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C89-8E5A-440F-BE26-E47442B0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F37C4-D11A-42D5-8821-327F7D07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60608-E017-496F-91B1-91FFD741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6D5E7-C237-440B-AAB4-8885FF9D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EF06-A4CB-4455-808A-6E2DA754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D697A-3CC9-4E6C-9CA1-0C027E2D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270E-362A-4FB9-8EB4-7D99E2AA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1B304-91CD-4C7C-A426-6F930692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A439F-2DC9-4B65-88BE-7D92BFE9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F6C1-73BC-40BE-A1FA-027E1EF3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2A6EF-2AFF-4CCF-9814-0F0D88FB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844-28C4-448F-B0F0-6AE1A4FB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BDA7D-859C-462C-B925-CCAF7184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33116-5B85-40DD-9B67-B40B93EA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ADF23-B4DD-46EE-8EA3-9C77B3C4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96199-EB3D-4424-8C6A-E6B55CFB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446EF-798E-42BE-B2F5-6FF33408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843D4-35E4-4FEF-AFF1-5F2932C2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CD92F-8AB6-4CED-AF6B-30C33A64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6DA3F-51C4-43DF-8A27-5A514F3A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EA52B-93EF-45A6-BF18-7592CDEF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B49C9-709F-4371-B2FD-A87672DD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4D3-9FF8-4EA5-B504-34E622F5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36F84-F993-44B3-82C6-B08E74AA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3A07D-F95D-4A7C-AE66-24BA160D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BF2A6-E697-4015-93C1-342107F0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EED88-EA5A-4889-B923-903540A2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FBA10-72E1-4245-B5CF-15660842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CD6B1-3872-47A2-A66C-3C6E1FAD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A3363-54E4-4660-8656-4AD9CCE3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2F24E-2896-45DE-964E-BCA20024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2F191-9558-4BE2-BB7C-6E0E14EF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7B9B9-CA2C-43B8-9301-E0745ACE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8A4-B0A4-41DB-B3F7-EC1395E8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81AEE-3A36-4554-9A10-8DD431BA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F15D0-043B-4C1E-9B0D-52671A38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163B5-6F5F-4DF8-BAF0-D8398D0B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3B333-0837-4F08-8CA4-394910BF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2EFDD-FD04-4998-A627-084E48C8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CF103-41A0-43C3-93E3-4DB2AB25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AEA1C-CB9E-4F79-A805-9F87C9AF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602AF-359F-46ED-ADB2-545B445F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A2A64-B363-4BF0-B855-FE71027B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1DEBA-FCAC-4FBC-8433-899290C0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F99-D63E-421A-820D-7780AB33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162DE-488E-40D3-879D-706B4AC4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8F1F4-90ED-44BB-95A0-173A61B3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44ABD-47E5-4F1C-9D2F-DDBCB0EB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6CD86-DC1B-464B-856F-7EEA6673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4E22B-9547-415A-BC34-808265C7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D6307-E30D-4B2C-A692-B1D9AA5A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9668A-89AC-40C3-8583-90BFFF2D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4E0CA-FBB1-4B31-8A27-4AD79EEA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FF40E-A350-4B44-94EC-BDCBCBC5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98A5E-2905-4471-878E-F263F8F2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F76-51B6-4770-80B1-8D95247C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1D521-CF6A-4A2A-992D-C417FFE1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BC3C1-B18B-414C-991A-C2DB25F2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5B314-D0CE-46CA-86E9-9382FD02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CCC2C-3FD5-4E5D-B7F1-1074C8A2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1623A-FF5D-4E95-B7F8-CE9EC3C3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F2F6F-B0B4-45DB-B2F0-F434E346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72E60-A2EF-4A8D-95B2-96D5E1B6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93AA2-B6B2-4DDC-B144-7A9B5D59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3BDF2-7202-401B-BED0-12F6CB60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191B0-9A22-4195-B390-026D8C89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D620-5466-413B-AA67-8D0D0D01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6F4E7-0639-4D10-9BE0-AE4F4539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5CE11-431B-42D6-9A7A-A046986A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BDB1A-2BE0-44BE-8054-E2EDC180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23C00-B33D-4E72-A4E8-D1997C7E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7D532-A46C-41A6-89A9-41DE686A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9BEDD-83DD-445B-B6FF-76C074D0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10160-6B0F-481F-80E5-D51EF8D2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F1D3-1274-4E0F-87C3-33BA62F31A9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4EBC-2511-45D2-B563-2322F4422AE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ECF0-BF7E-4D54-97A6-60F25943A1E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EECD-3C90-466D-BFCA-BCDDB5A733B9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02B4-6113-4456-80AA-73E874EFFD6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E929-01D3-4C27-A07C-6251F0B9E944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1FDE-6D52-4945-8A50-48861FDB0CC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B1EE-1735-4BDB-9D05-CF2E98BAA32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A804-2FC7-4DD3-AEB9-5AC734BDB64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3BDF-8D6C-43AD-838D-0235A3EA616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F1B4-E4A8-44F8-A3F2-CBCC3A1695B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B5CD-93B3-458D-8384-F62AEB9CB69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042E-0A71-4CB7-A8E9-E68C481D331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C98D-1AAC-40F8-9455-C58BB6EA3D9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C91D-9917-403B-9B87-E308C0EC66A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7E83-BF6D-4A53-8855-F8FDE07DC8D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alisto MT"/>
              </a:rPr>
              <a:t>CHECKING FOR ERRORS IN THE WORK SHEET</a:t>
            </a:r>
            <a:endParaRPr b="0" lang="en-US" sz="47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52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Check for Errors in the Trial Balance Column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lvl="1" marL="510120" indent="-169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Have all general ledger account balances been copied in the Trial Balance column correctly?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lvl="1" marL="510120" indent="-169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Have all general ledger account balances been recorded in the correct Trial Balance column?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Check for Errors in the Adjustments Column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lvl="1" marL="510120" indent="-169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Do the debits equal the credits for each adjustment?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lvl="1" marL="510120" indent="-169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Is the amount for each adjustment correct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7-4, page 1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sto MT"/>
              </a:rPr>
              <a:t>CHECKING FOR ERRORS IN THE WORK SHEET</a:t>
            </a:r>
            <a:endParaRPr b="0" lang="en-US" sz="4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9120" y="2285640"/>
            <a:ext cx="78742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626"/>
                </a:solidFill>
                <a:latin typeface="Calisto MT"/>
              </a:rPr>
              <a:t>Check for Errors in Income Statement and Balance Sheet Columns</a:t>
            </a:r>
            <a:endParaRPr b="0" lang="en-US" sz="2500" spc="-1" strike="noStrike">
              <a:solidFill>
                <a:srgbClr val="262626"/>
              </a:solidFill>
              <a:latin typeface="Calisto MT"/>
            </a:endParaRPr>
          </a:p>
          <a:p>
            <a:pPr lvl="1" marL="520560" indent="-1728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626"/>
                </a:solidFill>
                <a:latin typeface="Calisto MT"/>
              </a:rPr>
              <a:t>Has each amount been copied correctly?</a:t>
            </a:r>
            <a:endParaRPr b="0" lang="en-US" sz="2500" spc="-1" strike="noStrike">
              <a:solidFill>
                <a:srgbClr val="262626"/>
              </a:solidFill>
              <a:latin typeface="Calisto MT"/>
            </a:endParaRPr>
          </a:p>
          <a:p>
            <a:pPr lvl="1" marL="520560" indent="-1728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626"/>
                </a:solidFill>
                <a:latin typeface="Calisto MT"/>
              </a:rPr>
              <a:t>Has each amount been extended to the correct column?</a:t>
            </a:r>
            <a:endParaRPr b="0" lang="en-US" sz="2500" spc="-1" strike="noStrike">
              <a:solidFill>
                <a:srgbClr val="262626"/>
              </a:solidFill>
              <a:latin typeface="Calisto MT"/>
            </a:endParaRPr>
          </a:p>
          <a:p>
            <a:pPr lvl="1" marL="520560" indent="-1728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626"/>
                </a:solidFill>
                <a:latin typeface="Calisto MT"/>
              </a:rPr>
              <a:t>Has the net income/loss been calculated correctly?</a:t>
            </a:r>
            <a:endParaRPr b="0" lang="en-US" sz="2500" spc="-1" strike="noStrike">
              <a:solidFill>
                <a:srgbClr val="262626"/>
              </a:solidFill>
              <a:latin typeface="Calisto MT"/>
            </a:endParaRPr>
          </a:p>
          <a:p>
            <a:pPr lvl="1" marL="520560" indent="-1728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2626"/>
                </a:solidFill>
                <a:latin typeface="Calisto MT"/>
              </a:rPr>
              <a:t>Has the net income/loss been recorded in the correct column?</a:t>
            </a:r>
            <a:endParaRPr b="0" lang="en-US" sz="2500" spc="-1" strike="noStrike">
              <a:solidFill>
                <a:srgbClr val="262626"/>
              </a:solidFill>
              <a:latin typeface="Calisto MT"/>
            </a:endParaRPr>
          </a:p>
          <a:p>
            <a:pPr marL="233280" indent="-2332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3:17:25Z</dcterms:created>
  <dc:creator>Mary Colleen McLaughlin</dc:creator>
  <dc:description/>
  <dc:language>en-US</dc:language>
  <cp:lastModifiedBy>David Combs</cp:lastModifiedBy>
  <cp:lastPrinted>1999-03-30T21:19:41Z</cp:lastPrinted>
  <dcterms:modified xsi:type="dcterms:W3CDTF">2012-11-06T00:50:53Z</dcterms:modified>
  <cp:revision>28</cp:revision>
  <dc:subject/>
  <dc:title>THE ACCOUNTING EQUATION</dc:title>
</cp:coreProperties>
</file>